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BED-1F31-444C-B47D-E944B4A6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Wikipedia: Sp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5950-EE44-4A01-BA1B-188A6054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 from Wikipedia: Copy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B66-8622-40CC-BB60-9A630651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678-3CED-4A79-8E30-B7ED043D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3A3-EBA6-48AC-A102-067E6C86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5C62-6767-45C3-A8B3-C133EA7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2DA1C-3122-43B3-9578-C73BC5D9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7C76-19A7-4F1E-B697-035FFEF1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107F2-331E-4609-9671-8478637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BA121-9C19-4428-B77D-5B0EA52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5A0F8-2482-47A7-B85C-DDD7A85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1F9A-99CE-4A56-8D73-15DAB489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BEC9-F801-4FDA-9003-A0BA8A74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6553C-12A5-4C0E-8BB7-EEE195EF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C90B1-8572-466D-BBA1-2C4D95A1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5C1-25DA-42D2-A037-028066FB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EE420-DFF1-4155-934A-AB549E4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E76B1-7A7F-4A3A-A125-4AED2CE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DEE62-075A-41E9-AFA5-04794C8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7D2D-CF97-4327-88E1-C4E1FA3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6537-1EE5-4725-9D24-C07E0B4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19593-70BD-4753-94E5-9B4E316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EE674-3DE4-431A-A071-B5F40C95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406A9-A21A-48DB-B897-DADDB61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3F05-23B2-454D-B6C6-09C61477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2E497-83A6-405F-90C5-F1AE09D2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A41-45A5-443A-9078-CCBDDB4D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03386-DF64-48BE-9753-27756854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C90B-0426-4516-B690-46616B8F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2FB4D-1897-488E-9140-E1130DC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78C6E-401A-4C6B-BAE4-4BC874C5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A5731-BE6E-4E78-ACBB-D23CC75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86525-6B74-45B7-B436-681A234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3F95F-89F3-4CA3-BEAF-91914378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8120-9FBD-45D2-8038-D5D7BDDA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71B75-1DC6-402F-B72D-A5D9EEB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19DDE-1B38-494B-891C-955F4A5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18BD-8C79-4CEC-900A-02EC7D3C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7720-9EF2-4C03-8B06-8DF0B067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5C98F-8611-4AD2-822F-A356A6CD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5B979-7200-4733-AE5A-77F9C60A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E7E8-1C71-4D94-B78E-B833891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D347-9FDB-454A-BCBA-5325469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053-0665-414A-AA5B-75C19CA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B06C-87B4-43E0-B4D5-1D1D91FC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FD1-92F3-4700-B878-F7B25FD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099F-18B6-4354-B115-E5005B8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C0D-8B20-4292-A719-4C3BAB23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B0D-50C0-42E4-B6D6-DB0BB95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411D-460B-4AFC-BCAB-4603AFE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4F1-3CA8-42A8-92BB-03A6E4D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AC6-415D-49B4-B2E2-EAF9337F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0046-F7B2-460C-A79E-80A80A1A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FA55-CFE0-44BF-B9D3-9585D392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D76D-088E-43B3-9A22-A26410F1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9E74-2AC5-4D76-B2AE-F800A904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3DC3-8F20-44E8-B6BD-F62B73A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4934-0D79-41C0-9C0E-FD4F44B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2AF-8155-4F63-B3CE-BE569C4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4DA8-2147-4383-8AD8-097F47D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AAC8-A486-4960-BB87-59E24FA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5A58-5E9B-47E9-9C30-8B195DD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8BC0-0054-4053-A8C0-C5245BC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0745-2DB9-471F-90D4-B24E2AB5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D28B-BDB6-4A5C-86AD-6C9927B4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1086-A5AC-4872-B995-C02C0B4A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F692-2573-4C81-BDD8-2DEFECF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7730-83DB-4A6D-ADD2-DD276BF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3D66-F54B-4FCF-9027-EC1C808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551-2106-42E3-B5FC-057BC4A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6702-B289-470B-AD9F-B3DC3C5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6535-878F-4F86-8DB2-9FB58DD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C76D-1304-49E0-BE2C-08EC7A00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1BFC-D978-4317-9ACA-061D319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50F1-2425-465E-816B-DFA6A054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8D54-06DE-484A-AAE0-22B6B3C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9FB5-3CA9-4416-B3D4-07E9A0A7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508C-E1CF-4B23-A74F-556426E1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C3D0-57E3-4027-8D38-6F9C0BBC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757F-66BC-440E-939C-2A131581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B21-94A5-4130-81A3-EB37ACF8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F9BB-3D80-41E0-A858-0400195E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B7BF-C857-474E-AAE3-C5DB7078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B410-6561-45F2-B2DD-20733758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97A8-ACAA-472F-BA53-0A4E041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2D1E-0FCF-41DC-86B5-909AC6E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BC20-4791-451A-AC47-D3DA339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FAED-C593-4619-A0A3-8F4D209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3573-E50A-4F4D-B7C9-8C87AD3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910E-05F8-4205-A013-F260562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CDFA-1375-4653-BEAE-7BE056D1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CC0-B78E-48F5-AFE1-24337A08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D91C-ECC8-4592-96BE-DA4AE80D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9B86-8380-4A79-BEF4-FC4DB186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ED10-B4CA-4F3D-8499-FF2E0D6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9AC2A-6C25-4DB5-8537-BA341124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49FB-F858-4D39-8C1E-0111E36F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BED8-D47C-402E-8106-AC9ADAD1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F50E-28D5-45B8-84EF-1BB0FF8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169A-EB84-4445-BAB8-796324F8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AF5C-A815-44F0-B6C1-F1B2D3A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C2C0-BAF0-499C-95C4-6A0FD55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23F-737A-4A21-B669-6F403EE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2037-D7E4-4829-8589-FF979B3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78FE-8F85-4B13-AA91-BBF2D6B2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956F-4169-4AA0-836C-BB112C1F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7814-BE09-437F-8B4D-00F225CD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1C78-2C90-4ED2-8171-DDF7CD3C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233C-9564-4495-9E9C-680CD38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9E94-4684-4640-BF98-5B39BB42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E48AC-70F9-4381-A204-5F30B6B8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6914-0D00-4794-ABD4-0DF85B6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1D19-BCE4-47BB-B07E-EFFB177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5D7-8742-4B47-B5F9-0B29029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C7BD-AAD2-4AD1-A1E2-E6E1590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79C8-80D3-4D0D-89F8-FFB8A98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91BC-CAC5-4D7A-A4FB-E486E35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3305-F7E0-4650-A5D5-AEBC9349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6CA1-9D52-47C6-9C0B-FD904F4A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9F7F-FF60-4C7C-9F30-494A2909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29FC6-A0CE-486B-9C92-269BC07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F003-43D7-4BAE-8E9C-72C2E277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236DC-BD6A-4FC8-B1F6-F0FB29B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6BE0-E2E9-40BB-BA12-4F76D120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34F-F832-4E44-A7F5-3DE7129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D7EA-3073-4B6A-A71F-14733F5C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26445-5B7B-423B-BC84-EE0E4F7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0EEA5-37E6-4A34-B3A5-CB15945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CFD3B-97F7-475E-BA0B-3D933D0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2805-885E-4AFC-9ACE-8C5DA8DA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0238-CFB0-4A31-BC32-82EC92A2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9A25-0DBF-480F-8D22-07EE2651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83F8F-0CE7-4E50-97D9-F9196ACF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5560E-115B-4AEF-A20B-347B3FA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DD7C0-619C-4602-AF91-F444944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EFA9-238F-40D6-84FF-E24ECF84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488-9CAA-421C-BD23-93C76008D7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CBA-AC2D-45BF-B54A-0FAE2AB91E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25A-36E6-4E4A-B347-A5BAD9F89FFD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6D8-4C7D-42F3-9DF0-3AAC3E3F49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127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212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2CF-98BA-408D-87AF-5D30D2B9388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257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8BD-8562-4DE8-8F46-BCA0EBAB30EC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165-75BB-4851-967D-F4115E3298E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90D4-9335-4871-A879-E14B54B6E13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91B-14A6-4CFC-BC22-064775BEC7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52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6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2AD3-EAED-4BF2-A000-484EA25DD3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68" name="Picture 4" descr="epic-win-photos-math-problem-win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buying spices by heydrienne."/>
          <p:cNvPicPr/>
          <p:nvPr/>
        </p:nvPicPr>
        <p:blipFill>
          <a:blip r:embed="rId1"/>
          <a:stretch/>
        </p:blipFill>
        <p:spPr>
          <a:xfrm>
            <a:off x="457200" y="1752480"/>
            <a:ext cx="5067360" cy="380052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reative Common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5579280" y="2057400"/>
            <a:ext cx="348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lso look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NU General Public Lic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© Some rights re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opyleft symb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200px-Copyleft"/>
          <p:cNvPicPr/>
          <p:nvPr/>
        </p:nvPicPr>
        <p:blipFill>
          <a:blip r:embed="rId2"/>
          <a:stretch/>
        </p:blipFill>
        <p:spPr>
          <a:xfrm>
            <a:off x="6629400" y="4365720"/>
            <a:ext cx="10666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2" descr=""/>
          <p:cNvPicPr/>
          <p:nvPr/>
        </p:nvPicPr>
        <p:blipFill>
          <a:blip r:embed="rId2"/>
          <a:stretch/>
        </p:blipFill>
        <p:spPr>
          <a:xfrm>
            <a:off x="-139680" y="2011320"/>
            <a:ext cx="5187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hat is a trademark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tinctive indicator of a consumer product or service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trademar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 - registered trademar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gal enforcem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ual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sults from commercial use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hat is copyright? ©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clusive rights granted to the creator of an original work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ation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need to be registere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protect ideas, only their expression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anklin Gothic Book"/>
              </a:rPr>
              <a:t>Authors have the right to grant or deny educational use of their copyrighted material.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Educational Fair Us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219320" y="1905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copies allow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mited student handou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 article or ess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icture or cartoon per sour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harm to commercial interests.”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osting without permiss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901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commercial workshops allow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04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gal Use of Television Programs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143000" y="23623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lassroom use within 10 days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nly one showing allowed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spcAft>
                <a:spcPts val="2126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opy destroyed after 45 days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ceptions to Copyright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c doma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ired copyright, o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nted by autho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limited reproduc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mited copyrigh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granted by autho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6:35:11Z</dcterms:created>
  <dc:creator>Cynthia Moore</dc:creator>
  <dc:description/>
  <dc:language>en-US</dc:language>
  <cp:lastModifiedBy>Cynthia Moore</cp:lastModifiedBy>
  <dcterms:modified xsi:type="dcterms:W3CDTF">2011-04-14T18:46:14Z</dcterms:modified>
  <cp:revision>12</cp:revision>
  <dc:subject/>
  <dc:title>Slide 1</dc:title>
</cp:coreProperties>
</file>